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5DCE-D776-4802-80B6-A839007FB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97AD-B6BC-45D8-B669-FDC4D598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2D05-844E-44AF-861B-7BD14C6EB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9D7C-DE27-4234-84F6-E76146490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AA42-869D-436F-953B-C323FB461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CBB5-65D2-450C-8399-42BDF283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DA57-9B0D-4632-B739-0D7CC304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B209-1557-4E0E-8737-0410B045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7257-1458-4A51-A916-B7D6B26B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F56C-F8AA-431D-9EA5-FE690670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574E-5BA8-4E2C-AD6C-733F7ED8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1AA5-8D4D-415A-AD65-44F58691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F03E-FE1D-43B7-82CA-95DA6B60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F44C-EF80-47AC-9029-25D3C58F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16E1-ED18-468F-A7DF-952AA061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65A6-CA2B-4E36-9A95-B2A9C8B57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027D-6BAD-4FEF-AF80-82456F050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B0AE9-4FB1-4A42-8787-22B25FD43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0118B-935F-4E92-A75F-7D7E4BE6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3A96A-8AC2-41AB-8777-1A2A0B9B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D0D5C-19C7-4A85-8EB3-7220517E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A33D2-974A-4366-8F76-04ABF65B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D912-23E0-4BA9-B94F-C1285185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E9D11-28C3-4DC7-A4AC-D66D84FB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738B3-7660-4BFF-9F7E-74103700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4E7AF-B426-4C16-A128-E4851168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B8ACD-2B97-40CD-86EF-DD6F23B3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CA503-C399-4139-972C-142A2BE1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8E39C-AE5C-4BF8-AB24-A63319D3F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23F83-7824-40BB-A258-A0D218331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5426-F520-4646-9197-C01B5730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7E87-FEE2-4690-B6C7-B2928DAC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3A2E-FD56-4621-9328-570D171F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D57A-8585-4FF7-B5E9-CCF2DA75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6107-7359-4E41-96CE-D2EB9A38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DC44-B08F-4923-90FF-F909433C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FBCD-088A-4554-A781-D0BD8AA9C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C363-6564-4977-BEA3-01DEB6184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77C2-C9CB-464C-BE0A-E97340896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6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s of ban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79246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ail b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b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b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ment b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it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ank generates a profit from the differential between the level of interest it pays for deposits and other sources of funds, and the level of interest it charges in its lending activit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difference is referred to as the spread between the cost of funds and the loan interest r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rbian din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nar is the currency of Serb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SO 4217 code for the dinar is RSD, the three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 identifier is 941, currency symbol is the s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SD or РСД), while the unofficial lo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oquialism din or дин is still in informal 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eval din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"Serbian dinar" is mentioned the first back to the reign of Stefan the First-Crowned of the Nemanjić dynasty in 121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 to the fall of Despot Stefan Lazarević in 1459, most Serbian rulers minted silver dinar coins, except during the Serbian Empire when it was replaced by the stronger pap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in was an important symbol of Serbian statehood in the Middle 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rn dinar 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modern dinar: 1868-19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modern dinar: 1941-19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modern dinar: 2003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rn dinar paper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943600" y="4038480"/>
            <a:ext cx="1692360" cy="17686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267080" y="1447920"/>
            <a:ext cx="2057400" cy="17683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324480" y="1447920"/>
            <a:ext cx="2057400" cy="1692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1219320" y="4038480"/>
            <a:ext cx="2073240" cy="1844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3657600" y="4343400"/>
            <a:ext cx="1920960" cy="17683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rn dinar co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National Bank of Serb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National Bank of Serbia is the central bank of the Serbia and its main responsibilities a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rotection of price stability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intenance of financial stabili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National Bank of Serb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functions of the National Bank of Serbia includ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termine and implement the monetary polic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termine and implement the dinar exchange rate polic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manage the foreign currency reser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ssue banknotes and coins,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maintain efficient payment and financial 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28600" y="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earn money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ney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600200"/>
          <a:ext cx="8229600" cy="3075120"/>
        </p:xfrm>
        <a:graphic>
          <a:graphicData uri="http://schemas.openxmlformats.org/drawingml/2006/table">
            <a:tbl>
              <a:tblPr/>
              <a:tblGrid>
                <a:gridCol w="942840"/>
                <a:gridCol w="1114560"/>
                <a:gridCol w="2438280"/>
                <a:gridCol w="3733920"/>
              </a:tblGrid>
              <a:tr h="81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дна недељ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ематска це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Ци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ширење знања стручног енглеског језика из области менаџмента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ематска једи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научити појмове и термине на тему новца на енглеском језик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es money grow on trees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8320" y="990360"/>
            <a:ext cx="40384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191120" y="990720"/>
            <a:ext cx="4476600" cy="5562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990720"/>
            <a:ext cx="441972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4495680" cy="4464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2743200" y="3048120"/>
            <a:ext cx="6248520" cy="25905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 rot="19621800">
            <a:off x="4149720" y="95040"/>
            <a:ext cx="4322880" cy="25383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ork for mone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’s up to you to decid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 the following questions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term “money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currenc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s of banks do you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functions of the National Bank of Serb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exchange r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48752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научити појмове и термине на тему новца на енглеском језик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redavanje I diskusi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in uses of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change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bian di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ational Bank of Ser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earn mone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4000"/>
          </a:bodyPr>
          <a:p>
            <a:pPr marL="155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55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55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55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55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55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55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55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55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55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55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55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55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y is anything that is generally acce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5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payment for goods and servic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5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ayment of deb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5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5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in uses of money are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5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5160" indent="-1551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dium of exchan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5160" indent="-1551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unit of account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5160" indent="-1551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ore of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5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029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istory of money spans thousands of yea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money was a form of receipting grain stored in temple granaries in ancient Egypt and Mesopotam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029200" y="1600200"/>
            <a:ext cx="3657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rrency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cy is the prevalent money accepted for exchange of goods in an econom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exchange rates, which are the prices at which currencies (and the goods and services of individual currency zones) can be exchanged against each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xchange r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change rates between two currencies specifies how much one currency is worth in terms of the other. It is the value of a foreign nation’s currency in terms of the home nation’s curr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a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ank is licensed by a gover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s primary activity is to lend mone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ther financial activities were allowed o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orisnik</cp:lastModifiedBy>
  <dcterms:modified xsi:type="dcterms:W3CDTF">2010-05-07T12:44:47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